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107-BD98-472D-9511-F03251EF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3A4-963F-41F8-A4AB-D41BBE00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BD5-884F-495B-8A40-41FEA4DB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D6F-B574-4CBA-B916-9C9C6A3A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2933-EB02-4D54-B7C2-8B9E2EAB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B52-EDD9-42C0-ABC9-9A4EE613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493D-BDF5-40FC-BD9E-B604E6D8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D320-CF89-45D7-BBA4-03E07FFB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C786-E6BE-4CE9-B219-BBE09A2D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61D6-5271-4C09-9F79-A09AD7A6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EE66-A518-44DC-B40A-CD6BE5EE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28D-785D-40E0-A244-9EEC39C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2F0-003A-4016-8C51-CEA2BFAA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A03D-619B-4CA9-BD05-A98FC1D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1DB1-3EAD-49C9-BEC2-5B2A2922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72E3-E781-4A65-9437-62FC4E83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B908-0C22-423A-8ECB-FAA60FDE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D39-2F9E-4D03-94E5-0D5BC47B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99A-A75D-40E1-B0C6-62FC9938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356-E396-451A-A817-88C210BD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0B6-481B-4B00-8EBA-30416D19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454-2BFD-44D2-9770-A356281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613-C020-45B3-8B40-9C17440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977-EC17-4EE0-BD20-CFC1E39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igem.org/wiki/images/d/de/IGEM_basic_Logo_stylized.png"/>
          <p:cNvPicPr/>
          <p:nvPr/>
        </p:nvPicPr>
        <p:blipFill>
          <a:blip r:embed="rId2"/>
          <a:stretch/>
        </p:blipFill>
        <p:spPr>
          <a:xfrm>
            <a:off x="7452360" y="188640"/>
            <a:ext cx="1346760" cy="1092960"/>
          </a:xfrm>
          <a:prstGeom prst="rect">
            <a:avLst/>
          </a:prstGeom>
          <a:ln w="0">
            <a:noFill/>
          </a:ln>
        </p:spPr>
      </p:pic>
      <p:sp>
        <p:nvSpPr>
          <p:cNvPr id="1" name="Textfeld 6"/>
          <p:cNvSpPr/>
          <p:nvPr/>
        </p:nvSpPr>
        <p:spPr>
          <a:xfrm>
            <a:off x="7347240" y="1259640"/>
            <a:ext cx="1609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TU Darmstadt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Gerade Verbindung 8"/>
          <p:cNvCxnSpPr/>
          <p:nvPr/>
        </p:nvCxnSpPr>
        <p:spPr>
          <a:xfrm>
            <a:off x="0" y="1484640"/>
            <a:ext cx="6228360" cy="360"/>
          </a:xfrm>
          <a:prstGeom prst="straightConnector1">
            <a:avLst/>
          </a:prstGeom>
          <a:ln w="50800">
            <a:solidFill>
              <a:srgbClr val="006633"/>
            </a:solidFill>
            <a:round/>
          </a:ln>
        </p:spPr>
      </p:cxnSp>
      <p:cxnSp>
        <p:nvCxnSpPr>
          <p:cNvPr id="3" name="Gerade Verbindung 10"/>
          <p:cNvCxnSpPr/>
          <p:nvPr/>
        </p:nvCxnSpPr>
        <p:spPr>
          <a:xfrm>
            <a:off x="-36360" y="6309000"/>
            <a:ext cx="9289080" cy="360"/>
          </a:xfrm>
          <a:prstGeom prst="straightConnector1">
            <a:avLst/>
          </a:prstGeom>
          <a:ln w="50800">
            <a:solidFill>
              <a:srgbClr val="006633"/>
            </a:solidFill>
            <a:round/>
          </a:ln>
        </p:spPr>
      </p:cxnSp>
      <p:sp>
        <p:nvSpPr>
          <p:cNvPr id="4" name="Diagonaler Streifen 13"/>
          <p:cNvSpPr/>
          <p:nvPr/>
        </p:nvSpPr>
        <p:spPr>
          <a:xfrm rot="2495400">
            <a:off x="374400" y="19080"/>
            <a:ext cx="3312000" cy="2930400"/>
          </a:xfrm>
          <a:prstGeom prst="diagStripe">
            <a:avLst>
              <a:gd name="adj" fmla="val 93814"/>
            </a:avLst>
          </a:prstGeom>
          <a:solidFill>
            <a:srgbClr val="93c38d"/>
          </a:solidFill>
          <a:ln w="38100">
            <a:solidFill>
              <a:srgbClr val="00663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27640" y="6356520"/>
            <a:ext cx="3888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C9D996-EE97-41E3-A616-E5A822F91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gem.org/wiki/images/d/de/IGEM_basic_Logo_stylized.png"/>
          <p:cNvPicPr/>
          <p:nvPr/>
        </p:nvPicPr>
        <p:blipFill>
          <a:blip r:embed="rId2"/>
          <a:stretch/>
        </p:blipFill>
        <p:spPr>
          <a:xfrm>
            <a:off x="7452360" y="188640"/>
            <a:ext cx="1346760" cy="1092960"/>
          </a:xfrm>
          <a:prstGeom prst="rect">
            <a:avLst/>
          </a:prstGeom>
          <a:ln w="0">
            <a:noFill/>
          </a:ln>
        </p:spPr>
      </p:pic>
      <p:sp>
        <p:nvSpPr>
          <p:cNvPr id="47" name="Textfeld 6"/>
          <p:cNvSpPr/>
          <p:nvPr/>
        </p:nvSpPr>
        <p:spPr>
          <a:xfrm>
            <a:off x="7347240" y="1259640"/>
            <a:ext cx="1609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TU Darmstadt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Gerade Verbindung 8"/>
          <p:cNvCxnSpPr/>
          <p:nvPr/>
        </p:nvCxnSpPr>
        <p:spPr>
          <a:xfrm>
            <a:off x="0" y="1484640"/>
            <a:ext cx="6228360" cy="360"/>
          </a:xfrm>
          <a:prstGeom prst="straightConnector1">
            <a:avLst/>
          </a:prstGeom>
          <a:ln w="50800">
            <a:solidFill>
              <a:srgbClr val="006633"/>
            </a:solidFill>
            <a:round/>
          </a:ln>
        </p:spPr>
      </p:cxnSp>
      <p:cxnSp>
        <p:nvCxnSpPr>
          <p:cNvPr id="49" name="Gerade Verbindung 10"/>
          <p:cNvCxnSpPr/>
          <p:nvPr/>
        </p:nvCxnSpPr>
        <p:spPr>
          <a:xfrm>
            <a:off x="-36360" y="6309000"/>
            <a:ext cx="9289080" cy="360"/>
          </a:xfrm>
          <a:prstGeom prst="straightConnector1">
            <a:avLst/>
          </a:prstGeom>
          <a:ln w="50800">
            <a:solidFill>
              <a:srgbClr val="006633"/>
            </a:solidFill>
            <a:round/>
          </a:ln>
        </p:spPr>
      </p:cxnSp>
      <p:sp>
        <p:nvSpPr>
          <p:cNvPr id="50" name="Diagonaler Streifen 13"/>
          <p:cNvSpPr/>
          <p:nvPr/>
        </p:nvSpPr>
        <p:spPr>
          <a:xfrm rot="2495400">
            <a:off x="374400" y="19080"/>
            <a:ext cx="3312000" cy="2930400"/>
          </a:xfrm>
          <a:prstGeom prst="diagStripe">
            <a:avLst>
              <a:gd name="adj" fmla="val 93814"/>
            </a:avLst>
          </a:prstGeom>
          <a:solidFill>
            <a:srgbClr val="93c38d"/>
          </a:solidFill>
          <a:ln w="38100">
            <a:solidFill>
              <a:srgbClr val="00663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extmasterformat bearb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weite Eb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ritte Eb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ierte Eb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ünfte Eb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27640" y="6356520"/>
            <a:ext cx="3888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E14741-1F91-49C4-AA1F-5746DAC1F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14.igem.org/Team:TU_Darmstadt/Open_Hardware/Gel_Electrophoresis_Chamber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Real-Time Gel Electrophoresis Cham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iGEM Team of TU Darm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The final 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parts.igem.org/wiki/images/3/33/T3.jpg"/>
          <p:cNvPicPr/>
          <p:nvPr/>
        </p:nvPicPr>
        <p:blipFill>
          <a:blip r:embed="rId1"/>
          <a:stretch/>
        </p:blipFill>
        <p:spPr>
          <a:xfrm>
            <a:off x="2123640" y="1628640"/>
            <a:ext cx="50277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The needed pa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827640" y="1700640"/>
            <a:ext cx="7383600" cy="41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The bene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8480" indent="-348480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al time observation of the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egrated wiper against condensation for permanently perfect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hort production time (about one d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oduction costs around 25€ + conducting wire (~28US$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8480" indent="-348480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aving around 500€ (~ 560US$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The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 best way is to have a look on our wiki, where the protocol is described in detail. There you can also find the files to build your own Real-Time Gel Electrophoresis Chambe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de-DE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2014.igem.org/Team:TU_Darmstadt/Open_Hardware/Gel_Electrophoresis_Cha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Have fun, trying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ank you very much for the opportunity to participate! Best wishes, see you in Bosto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incerely, iGEM Team of TU Darmstad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8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15:17:57Z</dcterms:created>
  <dc:creator>Sebastian Barthel</dc:creator>
  <dc:description/>
  <dc:language>en-US</dc:language>
  <cp:lastModifiedBy>Annika</cp:lastModifiedBy>
  <dcterms:modified xsi:type="dcterms:W3CDTF">2015-09-01T12:48:21Z</dcterms:modified>
  <cp:revision>8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ildschirmpräsentation (4:3)</vt:lpwstr>
  </property>
  <property fmtid="{D5CDD505-2E9C-101B-9397-08002B2CF9AE}" pid="3" name="Slides">
    <vt:r8>6</vt:r8>
  </property>
</Properties>
</file>